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B09EC-7396-4D4C-B01F-95CD5D3E6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41329-A89D-47CA-9F1C-5B0D69F55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A2756-91BB-47D3-BFF0-2C6C01FD5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32A0F-06AC-46AD-B26E-330B125FA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0A4EE-F853-40C0-861C-915532196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F58A9-D9EE-4515-80F2-EDD61499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DF081-F701-410E-96E3-1A4C10EA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B2954-E9DE-48F5-B7FF-BDA04506C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0665-E291-4B07-8792-FBC3F76CC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034E-63F7-406D-B433-5D7BFB28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3BAEA-D255-4808-AC57-FF3A21BB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A233-B725-49EF-8B6F-206771073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35E3-BCF4-4502-BA93-EC4D7D29D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bdec"/>
                </a:solidFill>
                <a:latin typeface="Georgia"/>
              </a:rPr>
              <a:t>Gender Bias Survey</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4800" y="4566960"/>
            <a:ext cx="6610320" cy="927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By:Ethan</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 </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2336760" y="711360"/>
            <a:ext cx="939960" cy="1650960"/>
          </a:xfrm>
          <a:prstGeom prst="rect">
            <a:avLst/>
          </a:prstGeom>
          <a:ln w="0">
            <a:noFill/>
          </a:ln>
        </p:spPr>
      </p:pic>
      <p:pic>
        <p:nvPicPr>
          <p:cNvPr id="44" name="" descr=""/>
          <p:cNvPicPr/>
          <p:nvPr/>
        </p:nvPicPr>
        <p:blipFill>
          <a:blip r:embed="rId3"/>
          <a:stretch/>
        </p:blipFill>
        <p:spPr>
          <a:xfrm>
            <a:off x="5384880" y="812880"/>
            <a:ext cx="1422360" cy="180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46160" y="812520"/>
            <a:ext cx="966312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I'm Ethan and i'm doing this survey to find out about why people are gender bias and to find out how to stop it and keep it from starting up again so please enjoy the powerpoi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46" name="" descr=""/>
          <p:cNvPicPr/>
          <p:nvPr/>
        </p:nvPicPr>
        <p:blipFill>
          <a:blip r:embed="rId2"/>
          <a:stretch/>
        </p:blipFill>
        <p:spPr>
          <a:xfrm>
            <a:off x="1320840" y="2438280"/>
            <a:ext cx="6242040" cy="479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Gender Bias Survey</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Do you think boys are smarter than girl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Do you think girls are better at sports than girl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Do you think girls are faster than boy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Do you think boys are better at sports than girl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Do you think girls are better at everything than boys?</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Do you think only girls should teach?</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Do you think real men don’t cry?</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Only tough men wear pink?</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Do you think men are physically tougher than women?</a:t>
            </a: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Do you think men are better at everything than women?</a:t>
            </a:r>
            <a:endParaRPr b="0" lang="en-US" sz="1500" spc="-1" strike="noStrike">
              <a:solidFill>
                <a:srgbClr val="000000"/>
              </a:solidFill>
              <a:latin typeface="Times New Roman"/>
            </a:endParaRPr>
          </a:p>
        </p:txBody>
      </p:sp>
      <p:pic>
        <p:nvPicPr>
          <p:cNvPr id="49" name="" descr=""/>
          <p:cNvPicPr/>
          <p:nvPr/>
        </p:nvPicPr>
        <p:blipFill>
          <a:blip r:embed="rId2"/>
          <a:stretch/>
        </p:blipFill>
        <p:spPr>
          <a:xfrm>
            <a:off x="7924680" y="1727280"/>
            <a:ext cx="1816200" cy="2820960"/>
          </a:xfrm>
          <a:prstGeom prst="rect">
            <a:avLst/>
          </a:prstGeom>
          <a:ln w="0">
            <a:noFill/>
          </a:ln>
        </p:spPr>
      </p:pic>
      <p:pic>
        <p:nvPicPr>
          <p:cNvPr id="50" name="" descr=""/>
          <p:cNvPicPr/>
          <p:nvPr/>
        </p:nvPicPr>
        <p:blipFill>
          <a:blip r:embed="rId3"/>
          <a:stretch/>
        </p:blipFill>
        <p:spPr>
          <a:xfrm>
            <a:off x="3454560" y="4572000"/>
            <a:ext cx="2320920" cy="251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825480" y="390600"/>
            <a:ext cx="9186840" cy="685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984240" y="476280"/>
            <a:ext cx="9039240" cy="668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258840"/>
            <a:ext cx="9615600" cy="768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          </a:t>
            </a:r>
            <a:r>
              <a:rPr b="0" lang="en-US" sz="4300" spc="-1" strike="noStrike">
                <a:solidFill>
                  <a:srgbClr val="ffffff"/>
                </a:solidFill>
                <a:latin typeface="Georgia"/>
              </a:rPr>
              <a:t>Gender  Bias  Survey Results</a:t>
            </a:r>
            <a:br>
              <a:rPr sz="4300"/>
            </a:br>
            <a:r>
              <a:rPr b="0" lang="en-US" sz="4300" spc="-1" strike="noStrike">
                <a:solidFill>
                  <a:srgbClr val="ffffff"/>
                </a:solidFill>
                <a:latin typeface="Georgia"/>
              </a:rPr>
              <a:t> </a:t>
            </a:r>
            <a:endParaRPr b="0" lang="en-US" sz="4300" spc="-1" strike="noStrike">
              <a:solidFill>
                <a:srgbClr val="000000"/>
              </a:solidFill>
              <a:latin typeface="Times New Roman"/>
            </a:endParaRPr>
          </a:p>
        </p:txBody>
      </p:sp>
      <p:sp>
        <p:nvSpPr>
          <p:cNvPr id="54" name="PlaceHolder 2"/>
          <p:cNvSpPr>
            <a:spLocks noGrp="1"/>
          </p:cNvSpPr>
          <p:nvPr>
            <p:ph/>
          </p:nvPr>
        </p:nvSpPr>
        <p:spPr>
          <a:xfrm>
            <a:off x="-36720" y="2252520"/>
            <a:ext cx="10086840" cy="148305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r>
              <a:rPr b="0" lang="en-US" sz="2700" spc="-1" strike="noStrike">
                <a:solidFill>
                  <a:srgbClr val="4d626c"/>
                </a:solidFill>
                <a:latin typeface="Georgia"/>
              </a:rPr>
              <a:t>ADULT SURV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While I was doing this survey I found out that men and women don't think that one is better than the other they both think that they're the same not differ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r>
              <a:rPr b="0" lang="en-US" sz="2700" spc="-1" strike="noStrike">
                <a:solidFill>
                  <a:srgbClr val="4d626c"/>
                </a:solidFill>
                <a:latin typeface="Georgia"/>
              </a:rPr>
              <a:t>CHILD SURV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While I was surveying kids I found out that some think girls are better than boys and some thought that boys are better than girls and some just said n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7112160" y="914400"/>
            <a:ext cx="1117440" cy="2031840"/>
          </a:xfrm>
          <a:prstGeom prst="rect">
            <a:avLst/>
          </a:prstGeom>
          <a:ln w="0">
            <a:noFill/>
          </a:ln>
        </p:spPr>
      </p:pic>
      <p:pic>
        <p:nvPicPr>
          <p:cNvPr id="56" name="" descr=""/>
          <p:cNvPicPr/>
          <p:nvPr/>
        </p:nvPicPr>
        <p:blipFill>
          <a:blip r:embed="rId3"/>
          <a:stretch/>
        </p:blipFill>
        <p:spPr>
          <a:xfrm>
            <a:off x="4754520" y="5892840"/>
            <a:ext cx="1249560" cy="173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Answers to Questions</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219320"/>
            <a:ext cx="9664560" cy="5494320"/>
          </a:xfrm>
          <a:prstGeom prst="rect">
            <a:avLst/>
          </a:prstGeom>
          <a:noFill/>
          <a:ln w="0">
            <a:noFill/>
          </a:ln>
        </p:spPr>
        <p:txBody>
          <a:bodyPr lIns="0" rIns="0" tIns="0" bIns="0" anchor="t">
            <a:normAutofit fontScale="96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Do stereotypes affect how we see and interact with oth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I do think stereotypes affect the way we see and interact with oth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2.Is using stereotypes to judge people harmfu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Using stereotypes to judge people hurts their feelings so y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3.What did you find out  about your self?Did you find biases that you didn't know you had?What were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I found out that I sometimes think gender bias about people.Yes I did.They were ones that I noticed and that I used against girl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4.</a:t>
            </a:r>
            <a:r>
              <a:rPr b="0" lang="en-US" sz="2700" spc="-1" strike="noStrike">
                <a:solidFill>
                  <a:srgbClr val="4d626c"/>
                </a:solidFill>
                <a:latin typeface="arial"/>
              </a:rPr>
              <a:t>What can we do right now to help end gender bi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arial"/>
              </a:rPr>
              <a:t>We can start thinking that people are the same not different,that would stop gender bias.</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5079960" y="5689440"/>
            <a:ext cx="1165320" cy="180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